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7C1-74BC-4A4E-87CA-3CE06261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D42-F859-43CC-AB8A-9D124CE6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F2C-ECA0-4C87-9AE4-1D4EAC43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36A-84ED-410F-A5C4-A201BC8E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74B5-B562-49DF-A83A-6DA05006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B490-70BD-44F5-B3F7-4122FA00A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9E49-B8BE-43D1-A4B0-A4BF89D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3C9E-352C-485A-82BB-6E94DD87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0F4B-D7C4-48D9-9D76-1A015478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BEDA-F35F-4AB6-A6A2-8AA6552E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5A8A-3CD2-4925-9F77-788C667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E168-0D81-4A58-B573-DC75B1BD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A5A6-C733-4A6C-B4F9-399474CF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C3D5-791A-4F01-84DC-DF7A06C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C65D-4A85-4441-BE95-BB805B5D5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8C28-3C80-4F5B-9E04-79272AD6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A07B-1E00-45AA-90EB-157E8753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4C68D-6168-49CE-A979-C5523CC7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5AD4A-C86F-4401-953B-14B3FF36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F9F1A-062F-4C05-85B1-C28F479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DE6BF-AFBA-4F9F-93F6-A904981A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2199F1-856D-4D89-84D6-06DD01F1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DA57-BB31-4651-9E09-06D40F74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B75C4-4B9D-4CE3-B948-16DEA97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B66C9-6F1B-4523-9619-ABFA8FF3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EB55F-1F76-44A5-A871-312F0F4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5E3B8-9205-4A1C-B438-8F380B2D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B23C5-09F8-44A6-AFA3-246F37CB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D99CA3-146A-4996-9F0F-45754D31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2EFA6-7B09-4AFD-80CD-4730C4BA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C74A-DF68-477C-A1B0-B4BD7042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D7A74-8A52-4B6F-8DE5-FFADD1B8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1D71-4168-4B60-B928-FCF47899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24C1-828F-4E7B-A006-DAEA478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827D7-536B-497A-BF23-3EDA6DEB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2B0ED-2884-4585-984B-427CFF9A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34081-9A46-47F3-8550-21CC411F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FD4D-6B86-43F4-B80F-C2424D3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EDCF-907F-415D-A59D-7BCEC64D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5032-9B83-47C8-A769-68EB8350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75E92-656F-4749-98BB-F35BBCC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CADFA-31A2-410D-B9E6-13F0CD59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C3A26-D793-4815-86A1-F6257202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D513-009C-432D-B8FE-4A9C8060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7EB-3110-452C-975D-064F36D5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4E597-5101-4E66-9F59-BE2FA119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7D43-F7D6-4A44-9180-5B106F2B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EA8D5-FA59-43F2-B93E-5BEA8EF8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F825-275F-42CD-8FC2-9774E2CA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54009-8B60-4EF5-BFFE-0D42D969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1E8B5-0DAB-41FB-9450-B9A5F8FF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CF068-1608-4AA5-8349-EC1C4734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44DB-3A3E-4B26-9B5C-B43665D2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30001-B978-421B-8B76-099F34A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7967A-539A-4A33-8415-A25DCDE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1A47-F68C-453E-92B7-24B95538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F9252-DC86-4970-98C3-F5409C3E2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90CB0-6603-4172-ACA4-A8B561A47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ECC97-38A0-4358-8A05-23FD4A3F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A3DED-EDEF-4A67-A019-4039FCB6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61138-EDCB-47BE-B01C-F0F7552C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B81EE-5A82-4BFB-B0C3-22C06856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C2F2-8731-41CC-8D8A-169168EC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5C490-DD91-477E-9DE2-94F17D8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F2B09-DE38-449A-92D2-9A63FDD1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DC35-3EEB-451E-83DE-C931536E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E6B-D213-4318-96B3-0FC9ACC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5D0A-72F2-4E7B-8982-55E6E424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76595-24EC-4227-AD9B-7F35AA38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DA882-5570-4AE6-BBCA-2B3AE5A4A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CE9BB-AF25-4BBD-B752-B137B2F6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EA9BD-7082-40B8-83AE-368ED0C8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37E3B-F678-4AF6-B422-C8212BBD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B2E97-4BBD-49CB-AEF0-81877920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E4C93-D859-477B-ABB1-00D71D88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D92BA-1AFE-4AFE-9063-680D5BE5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A8AA2-703B-46E5-BF51-D4F6C836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BE69-C195-4B99-926F-6B5647C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51163-D8F5-428D-A411-635468B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06D45-D5A4-4801-830B-57D4F603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2DF9F-EA70-4663-9E1B-B9DAB6E7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27712-557D-4490-9CA4-0102E3DE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20466-5432-4422-BCD6-21FC4DA0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892A-F208-4E30-AAAE-EAC572E8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BC54-D8F8-4471-8064-05F488A269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B7A0-94FC-4AF7-8E0E-D139D1F0ACF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BE0-3D4F-4ABF-A013-C7EEC6C5CD1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B786-987B-46C2-9424-27AA79C1778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5DC6-A056-4948-AA40-2A14569B19D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E5D2-81CE-4BCC-9DA6-D11E1D635D1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9E52-3F02-41E1-B314-3A13E665421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Century Schoolbook"/>
              </a:rPr>
              <a:t>Виктор   Юзефович  Драгунский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entury Schoolbook"/>
              </a:rPr>
              <a:t>«Одна  капля  убивает  лошадь»</a:t>
            </a:r>
            <a:endParaRPr b="0" lang="en-US" sz="4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Составила   учитель   начальных   классов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ОУ   Лицей№52</a:t>
            </a:r>
            <a:r>
              <a:rPr b="1" lang="en-US" sz="2400" spc="-1" strike="noStrike">
                <a:solidFill>
                  <a:srgbClr val="424456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г. Уф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амонтова  О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ктор   Драгунский   родился 30/11  1913г. в   г. Нью – Йорке в   семье   эмигрантов, но   в  1925 г. переехал   в  Москву. Работал   актёром, сыграл   несколько   ролей   в   кино. Во   время   ВОВ служил  в   ополчении. Виктор Драгунский умер в 1972 году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сателя похоронил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Москв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ragunskii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700280"/>
            <a:ext cx="3632400" cy="4464000"/>
          </a:xfrm>
          <a:prstGeom prst="rect">
            <a:avLst/>
          </a:prstGeom>
          <a:ln w="0">
            <a:noFill/>
          </a:ln>
        </p:spPr>
      </p:pic>
      <p:sp>
        <p:nvSpPr>
          <p:cNvPr id="382" name="WordArt 11"/>
          <p:cNvSpPr txBox="1"/>
          <p:nvPr/>
        </p:nvSpPr>
        <p:spPr>
          <a:xfrm>
            <a:off x="1835280" y="549360"/>
            <a:ext cx="54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графия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 1959  года  пишет   весёлые   рассказы  про   Дениса   Кораблёва – «Денискины  рассказы». Героя   смешных   историй автор   назвал   в   честь   сына. Все   знают   эти  истор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  секрету  всему  свету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Капитан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жар   во   флигел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Девочка на   шар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Заколдованная  буква»  и 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6438960" y="2247840"/>
            <a:ext cx="885600" cy="133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390760" cy="25956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8"/>
          <p:cNvSpPr txBox="1"/>
          <p:nvPr/>
        </p:nvSpPr>
        <p:spPr>
          <a:xfrm>
            <a:off x="1332000" y="260280"/>
            <a:ext cx="63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е   рассказ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Century Schoolbook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24000" cy="309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5985000" y="1905120"/>
            <a:ext cx="1793880" cy="201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94804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2454480" cy="299700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1"/>
          <p:cNvSpPr txBox="1"/>
          <p:nvPr/>
        </p:nvSpPr>
        <p:spPr>
          <a:xfrm>
            <a:off x="1476360" y="333360"/>
            <a:ext cx="676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юбимые   книг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Объясни</a:t>
            </a:r>
            <a:r>
              <a:rPr b="0" i="1" lang="ru-RU" sz="4800" spc="-1" strike="noStrike">
                <a:solidFill>
                  <a:srgbClr val="a50021"/>
                </a:solidFill>
                <a:latin typeface="Century Schoolbook"/>
              </a:rPr>
              <a:t>  </a:t>
            </a: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слова</a:t>
            </a:r>
            <a:endParaRPr b="0" lang="en-US" sz="6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Никотин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яд, содержащийся  в  табак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апиросы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ильза из папиросной бумаги, в которую засыпан измельчённый таба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Захудалый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лабый, истощенный, хилы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ортсигар –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оский   футляр, коробочка для переноски сигар , сигарет  или папирос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«Казбек» –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ершина  Кавказа; здесь: сорт  папирос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Мундштук -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ердая, свободная от табака часть папиросной гильзы, которую при курении берут в ро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1908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Century Schoolbook"/>
              </a:rPr>
              <a:t>Вопросы   к   тексту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b9aaf8"/>
              </a:gs>
              <a:gs pos="100000">
                <a:srgbClr val="eff9f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напугало  Дениса  в  словах  доктора  и  ма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возмутило  мальчика  в  поведении  тети  Тамар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  Почему  мальчик  ругался  про  себя, а  не  вслу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 Зачем  Денис  испортил  папиросы  отц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 ли  поступили  папа  и  гости, смеясь  над  Денисо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но,  папа  ничего  не  понял.»  Что  он  должен  был  поня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 тебе  понравился  в  этом  рассказ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кто  не  понравился? 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entury Schoolbook"/>
              </a:rPr>
              <a:t>Задание   на   дом</a:t>
            </a:r>
            <a:r>
              <a:rPr b="0" lang="ru-RU" sz="4000" spc="-1" strike="noStrike">
                <a:solidFill>
                  <a:srgbClr val="424456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пиши  речь  о  вреде  курения. Какие   аргументы  ты  приведешь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жешь  проиллюстрировать  свою  речь   рисунком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51:26Z</dcterms:created>
  <dc:creator>Admin</dc:creator>
  <dc:description/>
  <dc:language>en-US</dc:language>
  <cp:lastModifiedBy>User</cp:lastModifiedBy>
  <dcterms:modified xsi:type="dcterms:W3CDTF">2011-10-12T12:23:21Z</dcterms:modified>
  <cp:revision>21</cp:revision>
  <dc:subject/>
  <dc:title>Слайд 1</dc:title>
</cp:coreProperties>
</file>